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aixa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7848720" cy="609840"/>
          </a:xfrm>
          <a:prstGeom prst="rect">
            <a:avLst/>
          </a:prstGeom>
          <a:ln w="0">
            <a:noFill/>
          </a:ln>
        </p:spPr>
      </p:pic>
      <p:pic>
        <p:nvPicPr>
          <p:cNvPr id="1" name="faixa" descr=""/>
          <p:cNvPicPr/>
          <p:nvPr/>
        </p:nvPicPr>
        <p:blipFill>
          <a:blip r:embed="rId4"/>
          <a:stretch/>
        </p:blipFill>
        <p:spPr>
          <a:xfrm>
            <a:off x="609480" y="457200"/>
            <a:ext cx="7848720" cy="6033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066680" y="5867280"/>
            <a:ext cx="6177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5"/>
          <a:srcRect l="0" t="0" r="0" b="24026"/>
          <a:stretch/>
        </p:blipFill>
        <p:spPr>
          <a:xfrm>
            <a:off x="1066680" y="5867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676520" y="60199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PARTAMENTO DE ÁGUAS E ENERGIA ELÉ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457200"/>
            <a:ext cx="60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14400" y="1295280"/>
            <a:ext cx="7264440" cy="4462560"/>
            <a:chOff x="914400" y="1295280"/>
            <a:chExt cx="7264440" cy="4462560"/>
          </a:xfrm>
        </p:grpSpPr>
        <p:pic>
          <p:nvPicPr>
            <p:cNvPr id="43" name="hidrografia_sp" descr=""/>
            <p:cNvPicPr/>
            <p:nvPr/>
          </p:nvPicPr>
          <p:blipFill>
            <a:blip r:embed="rId2"/>
            <a:stretch/>
          </p:blipFill>
          <p:spPr>
            <a:xfrm>
              <a:off x="914400" y="1295280"/>
              <a:ext cx="7264440" cy="44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828800" y="32767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86000" y="28954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90920" y="25909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1337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6880" y="16765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24080" y="14479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35053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25146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91120" y="44197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28954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76920" y="51814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52880" y="39625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19920" y="43434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43600" y="46483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81680" y="40384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81680" y="35812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44197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0080" y="35812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57800" y="16002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0" y="19051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23623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7800" y="28195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c0c0c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Brasao" descr=""/>
          <p:cNvPicPr/>
          <p:nvPr/>
        </p:nvPicPr>
        <p:blipFill>
          <a:blip r:embed="rId3"/>
          <a:stretch/>
        </p:blipFill>
        <p:spPr>
          <a:xfrm>
            <a:off x="1066680" y="457200"/>
            <a:ext cx="5652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rcRect l="0" t="0" r="0" b="25005"/>
          <a:stretch/>
        </p:blipFill>
        <p:spPr>
          <a:xfrm>
            <a:off x="7543800" y="5105520"/>
            <a:ext cx="533520" cy="525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62320" y="474336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Diretora da Diretoria de Procediment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Outorga e Fiscalização - D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42861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eehand575 BT"/>
              </a:rPr>
              <a:t>Leila de Carvalho G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847880"/>
            <a:ext cx="7696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rial"/>
              </a:rPr>
              <a:t>RESOLUÇÃO CONJUNTA DOS SECRETÁRIOS DE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rial"/>
              </a:rPr>
              <a:t>DO ME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rial"/>
              </a:rPr>
              <a:t>E DE ENERGIA, RECURSOS HÍDRICOS E SANE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16765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c0c0c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6094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OVERNO DO ESTADO DE SÃO PA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44197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c0c0c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1600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c0c0c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2578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daee.sp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39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III -  Outorga de Recursos Hídr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odalidades de outorga definidas no artigo 1º do Decreto Estadual nº 41.258, de 31.10.1986, entre as quais se destac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81952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utorga de Implantação de Empreend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to administrativo pelo qual o DAEE declara a disponibilidade de água para os usos requeridos ou aprova  uma interferência no recurso hídrico, não conferindo a seu titular o direito de uso ou interferência destinando-se apenas a reservar a vazão passível de outorga, ou aprovar a implantação de ob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3143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utorga de direito de uso de recursos hídr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to administrativo mediante o qual o DAEE faculta ao requerente o direito de uso dos recursos hídricos, por prazo determinado, nos termos e condições expressas no respectivo 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428840"/>
            <a:ext cx="800100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X - Licença de Execução de Poç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é o ato pelo qual o DAEE faculta a execução de obra que possibilita a exploração ou pesquisa de água subterrâ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XI - Plano de recursos hídr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é o plano diretor elaborado por bacia hidrográfica, que fundamenta e orienta a implementação da política e do gerenciamento dos recursos hídr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276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5429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3º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icam sujeitos à outorga de recursos hídr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3241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- A implantação de qualquer empreendimento que possa demandar a utilização ou interferência  nos recursos hídricos, superficiais ou subterrâneos; limitando-se a outorga apenas a reservar a vazão passível de futura outorga de direito de uso, ou apenas autorizando o desenvolvimento dos projetos de obras a serem posteriormente autorizad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276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504800"/>
            <a:ext cx="800100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 - A execução de obras ou serviços que possam alterar o regime, a quantidade e a qualidade desses mesmos recurs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I - A execução de obras para extração de águas subterrâne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V - A derivação de água, do seu curso ou depósito, superficial ou subterrâ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- O lançamento de efluentes em corpos de á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1276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733400"/>
            <a:ext cx="8001000" cy="40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– as fontes de poluição relacionadas no art. 57 do Regulamento da Lei Estadual nº 997/76,aprovado pelo Decreto Estadual n.8.468/7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 – os empreendimentos e atividades utilizadoras de recursos ambientais, considerados efetiva ou potencialmente poluidores, bem como os capazes, sob qualquer forma, de causar degradação ambiental, consoante o disposto no artigo 10 da Lei Federal nº  6938, de 31.10.81, notadamente, os relacionadas no Anexo da  Resolução n. 237/97, do CON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181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4º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cam sujeitos à licença ambien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1276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37160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5º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xceto nos casos previstos no artigo 6º, o pedido de outorga de direito de uso de recursos hídricos, apresentado ao DAEE, nas hipóteses estabelecidas nos incisos II, IV e V do artigo 3º deverá vir instruído com o protocolo, no DEPRN, do pedido de autorização para supressão de vegetação, para interferência em área de preservação permanente ou intervenção em unidades de conservação. Quando couber, O DEPRN deverá ouvir o IBAMA e o órgão responsável pela administração da unidade de conservação, respectivamente, antes da emissão da autorização pleite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1276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§ 1º - O protocolo de que trata este artigo é substituído pelo Parecer Técnico Florestal, nos casos de canalizações fechadas a serem executadas em qualquer lugar, ou de obras hidráulicas a serem executadas em Unidades de Conserv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2º - Se, no exame do pedido feito ao DEPRN forem constatados impedimentos que exijam alterações no projeto, será expedido Parecer Técnico Florestal que indicará tais impedimentos, encaminhando ao DAEE pelo DE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276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48608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3º - O DEPRN somente emitirá as autorizações de que trata o “caput” deste artigo mediante apresentação, pelo interessado, do protocolo do pedido de outorga do direito de uso de recursos hídricos feito ao DA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§ 4º - As autorizações referidas no parágrafo anterior serão emitidas sob condição da concessão da outorga, condição essa expressa no instrumento da autoriz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276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48608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6º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s casos sujeitos à licença ambiental, a emissão da Licença Prévia (LP) pela CPRN ou pela CETESB, para os empreendimentos que tenham interface com recursos hídricos, terá como pré-requisito a outorga de implantação de empreendimento emitida pelo DAEE, definida no inciso VIII, Artigo 2º desta Resoluçã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7º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emissão da outorga de direito de uso ou interferência nos recursos hídricos, o DAEE solicitará como pré-requisito a Licença de Instalação (LI), para as atividades sujeitas ao licenciamento ambien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33640" y="13716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ula o Procedimento para o Licenciamento Ambiental Integrado às Outorgas de Recursos Hídric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781360"/>
            <a:ext cx="800100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ecretários de Estado do Meio Ambiente e de Energia, Recursos Hídricos e Saneamento, no uso das suas atribuições legais e considerando a necessidade de integração de procedimentos dos instrumentos das Políticas Estaduais do Meio Ambiente e de Recursos Hídr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olv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1276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486080"/>
            <a:ext cx="8076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arágrafo Únic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cença de instalação será  entregue ao interessado juntamente com as autorizações  para supressão de vegetação e para interferência em área de preservação perma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8º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emissão da Licença de Operação (LO), em empreendimentos sujeitos ao licenciamento ambiental, e que tenham interface com os recursos hídricos, a emissão terá como pré-requisito a outorga de direito de uso emitida pelo DA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1276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486080"/>
            <a:ext cx="8076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9º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s empreendimentos legalmente implantados e que venham modificar o projeto original, deverão submeter essas alterações a CPRN ou CETESB e ao DAEE para nova análise, independentemente da validade das licenças ou outorgas emit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1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s usos e interferências, em recursos hídricos de domínio da União, deverão observar, além da legislação ambiental, o disposto na Lei Federal nº  9.984, de 17 de julho de 2000, e sua regulament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1276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5238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1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 Resolução entra em vigor noventa dias após a sua public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398448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AURO GUILHERME JARDIM A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76840" y="3984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JOSÉ GOLDEMBE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5720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cretário de Estado de Energia, Recursos Hídricos e San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1000" y="4572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cretário de Estado do Me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380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bc353"/>
                </a:solidFill>
                <a:latin typeface="Technical"/>
              </a:rPr>
              <a:t>Fluxo para outorga de empreendimentos a serem insta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676520"/>
            <a:ext cx="16765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2666880"/>
            <a:ext cx="49532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AEE - Implantação de empre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809880"/>
            <a:ext cx="647676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MA/CETESB/DEPRN - Licenci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952880"/>
            <a:ext cx="495288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AEE - Direit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3808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bc353"/>
                </a:solidFill>
                <a:latin typeface="Technical"/>
              </a:rPr>
              <a:t>Fluxo para regularização da outorga de empreendimento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89320" y="1905120"/>
            <a:ext cx="2583000" cy="741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lan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DA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18040" y="3051000"/>
            <a:ext cx="2725560" cy="1617840"/>
          </a:xfrm>
          <a:prstGeom prst="flowChartDecision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ciamento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73800" y="3591000"/>
            <a:ext cx="2008080" cy="606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ça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c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9800" y="4668840"/>
            <a:ext cx="1792080" cy="741240"/>
          </a:xfrm>
          <a:prstGeom prst="flowChartPunchedTap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reito de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3456000"/>
            <a:ext cx="1720800" cy="808200"/>
          </a:xfrm>
          <a:prstGeom prst="flowChartPunchedTap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reito de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87480" y="3859200"/>
            <a:ext cx="43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85920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78560" y="4197240"/>
            <a:ext cx="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81360" y="2714760"/>
            <a:ext cx="0" cy="33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7480" y="35910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0680" y="359100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18116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1º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cam estabelecidos os seguintes procedimentos para a integração das autorizações ou licenças ambientais com as outorgas de recursos hídricos  entre os órgãos e entidades componentes do Sistema Estadual de Meio Ambiente e do Sistema Estadual de Gerenciamento de Recursos Híd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543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arágrafo únic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Os procedimentos de análise das autorizações ou licenças ambientais e das outorgas de recursos hídricos deverão considerar as prioridades estabelecidas nos Planos de Recursos Hídricos, bem como o princípio dos usos múltiplos, previstos na Lei Estadual nº 7.663, de 30 de dezembro de 199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18116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tigo 2º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fins desta Resolução, são adotadas as seguintes defin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 - Licenciamento ambien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rocedimento administrativo pelo qual o órgão ambiental competente, licencia a localização, instalação, ampliação e a operação de empreendimentos e atividades utilizadoras de recursos ambientais consideradas efetiva ou potencialmente poluidoras, ou daquelas que, sob qualquer forma, possam causar degradação ambiental, considerando as disposições legais e regulamentares e as normas técnicas aplicáveis ao cas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6280" y="13906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I - Licença ambien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to administrativo pelo qual o órgão ambiental competente, estabelece as condições, restrições e medidas de controle ambiental que deverão ser obedecidas pelo empreendedor, pessoa física ou jurídica, para localizar, instalar, ampliar e operar empreendimentos ou atividades utilizadoras dos recursos ambientais consideradas efetiva ou potencialmente poluidoras ou aquelas que, sob qualquer forma, possam causar degradação ambient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6280" y="1104840"/>
            <a:ext cx="807732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II - Licença Prévia – L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oncedida na fase preliminar do planejamento de empreendimento ou atividade aprovando sua localização e concepção, atestando a viabilidade ambiental e estabelecendo os requisitos básicos e condicionantes a serem atendidos nas próximas fases de sua implement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V - Licença de Instalação - L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utoriza a instalação do empreendimento ou atividade de acordo com as especificações constantes dos planos, programas e projetos aprovados, incluindo as medidas de controle ambiental e demais condicionantes, da qual constituem motivo determina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80" y="1123920"/>
            <a:ext cx="80773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 - Licença de Ope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utoriza a operação da atividade ou empreendimento, após a verificação do efetivo cumprimento do que consta das licenças anteriores, com as medidas de controle ambiental e condicionantes determinadas para a ope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I -  Parecer Técnico Flores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latório ou manifestação do DEPRN, nos processos para obtenção de licenças em tramitação no DAEE ou em outros órgãos públ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ecer deve ser acompanhado de planta do imóvel ou da obra com as devidas demarcações, legendas e assinatura do técnico responsá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6280" y="1238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ecer não autoriza o início da implantação do empreendimento, sendo obrigatória para isso a  emissão da autorização correspondente ou da licença correspond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02904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II -  Autorização para supressão de veget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to administrativo pelo qual o DEPRN autoriza a supressão de vegetação, o corte de árvores nativas e a intervenção em áreas de preservação permanente definidas na Lei Federal nº 4.771/6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3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baseline="2000">
                <a:solidFill>
                  <a:srgbClr val="ff9900"/>
                </a:solidFill>
                <a:latin typeface="Technical"/>
              </a:rPr>
              <a:t>Resolução Conjunta SMA/SERHS - Nov/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6280" y="12384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utorização é emitida, considerando as restrições legais relativas ao aspecto florestal e ao uso e ocupação da área, e obrigatoriamente acompanhada de planta assinada pela autoridade florest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) a autorização e plantas (originais) devem permanecer no local da atividade para fins de fiscaliz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1:25:04Z</dcterms:created>
  <dc:creator>daee</dc:creator>
  <dc:description/>
  <dc:language>en-US</dc:language>
  <cp:lastModifiedBy>daee</cp:lastModifiedBy>
  <cp:lastPrinted>2002-04-02T17:55:41Z</cp:lastPrinted>
  <dcterms:modified xsi:type="dcterms:W3CDTF">2004-04-23T18:42:44Z</dcterms:modified>
  <cp:revision>107</cp:revision>
  <dc:subject/>
  <dc:title>Slide sem título </dc:title>
</cp:coreProperties>
</file>